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29.wmf" ContentType="image/x-wmf"/>
  <Override PartName="/ppt/media/image17.wmf" ContentType="image/x-wmf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558-F701-44CB-87E5-CEC1C59D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E4EE-5A56-435F-AC1F-ED281693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4352-2667-4E78-BC38-A4468A02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E8E0-10BD-438D-825F-B6E572BE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553C-9728-483F-9244-8A8998AC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3F84-5A65-4113-9539-28F81AEF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2957-3805-4E04-B67B-078413E3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1982-9E84-4BE3-B5AF-85A86798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8C7A-4CC6-4C2A-BA0C-6CCEB66B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B441-38E7-49B3-BA97-10DE8D28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1640-9FA6-4FA0-A6E4-A40551EB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60B-E984-4510-B3F2-A50F224C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12FD-5EC8-42A2-B51D-C632E65E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AFB4-F620-4004-BA5E-4F499846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821C-03BE-4A3C-B2DC-F7C0E48C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FB37-E278-4DD9-AD7B-5E1F6FB2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ADCB-7539-44DB-8B9C-74278CD6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C0A6-22A3-4BFC-82FF-A95E596E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433-55A8-488F-9581-E2898295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15FD-0349-48DD-BEF6-D6B3F22F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59B5-FBD2-4A3F-817C-C29353D8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71AD-B5D6-4A22-8FF7-0C47FB0D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31FD-FF6A-480E-B98D-BEF367F2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7C86-AD81-4C5E-8739-D3497BEF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019B-CD01-46A7-BD2B-F5BCD3FBB5B8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BEA6-C927-4EFC-8467-629AE70A7C0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f8fe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8036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660066"/>
                </a:solidFill>
                <a:latin typeface="Tahoma"/>
              </a:rPr>
              <a:t>Низкая рождаемость в Российской Федерации:</a:t>
            </a:r>
            <a:br>
              <a:rPr sz="2000"/>
            </a:br>
            <a:r>
              <a:rPr b="1" i="1" lang="en-US" sz="2000" spc="-1" strike="noStrike">
                <a:solidFill>
                  <a:srgbClr val="660066"/>
                </a:solidFill>
                <a:latin typeface="Tahoma"/>
              </a:rPr>
              <a:t>вызовы и стратегические подходы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3333cc"/>
                </a:solidFill>
                <a:latin typeface="Tahoma"/>
              </a:rPr>
              <a:t>Международный семинар </a:t>
            </a:r>
            <a:br>
              <a:rPr sz="2000"/>
            </a:br>
            <a:r>
              <a:rPr b="1" i="1" lang="en-US" sz="2000" spc="-1" strike="noStrike">
                <a:solidFill>
                  <a:srgbClr val="3333cc"/>
                </a:solidFill>
                <a:latin typeface="Tahoma"/>
              </a:rPr>
              <a:t>Москва, 14-15 сентября 2006</a:t>
            </a:r>
            <a:br>
              <a:rPr sz="2400"/>
            </a:b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8000" y="1988640"/>
            <a:ext cx="8064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Тенденции рождаемости в Российской Федерации по сравнению с другими промышленно развитыми странами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3824640"/>
            <a:ext cx="864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ahoma"/>
              </a:rPr>
              <a:t>А.Г. Вишневский,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cc"/>
                </a:solidFill>
                <a:latin typeface="Tahoma"/>
              </a:rPr>
              <a:t>Руководитель Центра демографии и экологии человека ИНП РАН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a964"/>
            </a:gs>
            <a:gs pos="100000">
              <a:srgbClr val="db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29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Доля третьих рождений в общем числе родившихся, %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569440" cy="560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CD9-BA90-4DF2-AE9C-BBD20F25F0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a964"/>
            </a:gs>
            <a:gs pos="100000">
              <a:srgbClr val="db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296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Доля ТРЕТЬИХ И ПОСЛЕДУЮЩИХ рождений в</a:t>
            </a: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общем числе родившихся, 2002 год, %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209080" cy="532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FBFE-8AA5-4C88-87ED-18D66C12DF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a964"/>
            </a:gs>
            <a:gs pos="100000">
              <a:srgbClr val="db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29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Средний возраст матери при рождении ребенка </a:t>
            </a:r>
            <a:br>
              <a:rPr sz="2400"/>
            </a:b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40720" cy="561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CBF8-7F2C-42FC-A32D-18217A6C2B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a964"/>
            </a:gs>
            <a:gs pos="100000">
              <a:srgbClr val="db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Коэффициент суммарной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рождаемости в России в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1946-2005 гг.</a:t>
            </a:r>
            <a:br>
              <a:rPr sz="24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Пунктир – линия тренда 1946-1981 годов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569080" cy="48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19B-65C3-475A-8A19-1DB7A48E28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a964"/>
            </a:gs>
            <a:gs pos="100000">
              <a:srgbClr val="db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Периоды подъема коэффициента суммарной рождаемости в некоторых странах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640720" cy="532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444C-6DA4-4547-AD6F-F9B72E2FA4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a964"/>
            </a:gs>
            <a:gs pos="100000">
              <a:srgbClr val="db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Arial"/>
              </a:rPr>
              <a:t>Итоговая рождаемость условных и реальных поколений.  Иллюстративная схема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9D83-7C48-4389-8A20-77B3F1B1B2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a964"/>
            </a:gs>
            <a:gs pos="100000">
              <a:srgbClr val="db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Arial"/>
              </a:rPr>
              <a:t>Итоговая рождаемость условных и реальных поколений. Пример Швеции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569440" cy="500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CF3-F7B2-471B-A814-1E02319986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a964"/>
            </a:gs>
            <a:gs pos="100000">
              <a:srgbClr val="db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Arial"/>
              </a:rPr>
              <a:t>Итоговая рождаемость условных и реальных поколений. Пример России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220760"/>
            <a:ext cx="8686800" cy="540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D209-C160-4112-9368-A0E90F9D53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a964"/>
            </a:gs>
            <a:gs pos="100000">
              <a:srgbClr val="db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Коэффициент суммарной рождаемости условных поколений и итоговая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рождаемость реальных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поколений в Швеции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496360" cy="532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1A4-0A2B-49C4-AAD2-721C0C72D2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a964"/>
            </a:gs>
            <a:gs pos="100000">
              <a:srgbClr val="db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Коэффициент суммарной рождаемости условных поколений и итоговая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рождаемость реальных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4400"/>
            </a:b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поколений в России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56908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EE8-2927-496B-B492-11572E1413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a964"/>
            </a:gs>
            <a:gs pos="100000">
              <a:srgbClr val="db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72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6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Коэффициент суммарной рождаемости в России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1927 - 2003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84836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D663-FF77-42A9-8253-CF45BE4475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a964"/>
            </a:gs>
            <a:gs pos="100000">
              <a:srgbClr val="db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6407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  <a:ea typeface="Arial"/>
              </a:rPr>
              <a:t>Возрастные коэффициенты и коэффициент суммарной рождаемости условного поколения</a:t>
            </a: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4479840" y="1192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458200" cy="2590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33520" y="4648320"/>
            <a:ext cx="8305560" cy="20937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57200" y="4267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  <a:ea typeface="Arial"/>
              </a:rPr>
              <a:t>Выигрыш / проигрыш по поколениям по сравнению с уровнем 1980 года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Эффект мер демографической политики 1980-х годов в России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D5FF-3CC5-48FD-922F-170DBFABB7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a964"/>
            </a:gs>
            <a:gs pos="100000">
              <a:srgbClr val="db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Периоды резкого падения коэффициента </a:t>
            </a: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суммарной рождаемости в некоторых странах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42472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1192-5AA6-4DFC-942F-14275EC05F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a964"/>
            </a:gs>
            <a:gs pos="100000">
              <a:srgbClr val="db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Число детей, родившихся вне зарегистрированного брака, на 100 родившихся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640720" cy="541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8D39-FE58-47C4-BAD1-38B4FA5D37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a964"/>
            </a:gs>
            <a:gs pos="100000">
              <a:srgbClr val="db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Число легальных абортов на 100 родов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49780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32CF-CE27-4115-9936-1A9804A83B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a964"/>
            </a:gs>
            <a:gs pos="100000">
              <a:srgbClr val="db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F875-25CD-4E23-9EFF-6845AB41D5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a964"/>
            </a:gs>
            <a:gs pos="100000">
              <a:srgbClr val="db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94D-81EE-40F7-B5D7-E6F026AF22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a964"/>
            </a:gs>
            <a:gs pos="100000">
              <a:srgbClr val="db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2964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Коэффициент суммарной рождаемости в 40 промышленных странах мира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93E7-5CD8-4693-A608-66AB0A0C2D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a964"/>
            </a:gs>
            <a:gs pos="100000">
              <a:srgbClr val="db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296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Нетто-коэффициент воспроизводства населения в 40 промышленных странах мира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18520" cy="535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197B-9406-445D-9146-99484C35C7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a964"/>
            </a:gs>
            <a:gs pos="100000">
              <a:srgbClr val="db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29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Итоговая рождаемость реальных поколений</a:t>
            </a: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женщин в России</a:t>
            </a:r>
            <a:br>
              <a:rPr sz="2400"/>
            </a:b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8036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1C0-BCD5-4F99-9B35-EECDBAA170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a964"/>
            </a:gs>
            <a:gs pos="100000">
              <a:srgbClr val="db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29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Итоговая рождаемость реальных поколений  женщин 1900-1970 годов рождения в России и</a:t>
            </a: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некоторых европейских странах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51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AC28-1E65-4C0B-914A-900D121276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a964"/>
            </a:gs>
            <a:gs pos="100000">
              <a:srgbClr val="db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29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Итоговая рождаемость реальных поколений 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женщин 1930-1970 годов рождения в некоторых странах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569080" cy="52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8CC4-7B0B-4E14-ADCE-F5CC0C9A3F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a964"/>
            </a:gs>
            <a:gs pos="100000">
              <a:srgbClr val="db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Доля первых рождений в общем числе родившихся, %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713800" cy="568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FCA9-38E1-4903-A052-E133E18B22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a964"/>
            </a:gs>
            <a:gs pos="100000">
              <a:srgbClr val="db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29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Доля вторых рождений в общем числе родившихся, %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547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39E9-E351-4D93-A41B-FBCBED7ADB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08:01:25Z</dcterms:created>
  <dc:creator>Guest</dc:creator>
  <dc:description/>
  <dc:language>en-US</dc:language>
  <cp:lastModifiedBy>amordovin</cp:lastModifiedBy>
  <dcterms:modified xsi:type="dcterms:W3CDTF">2006-09-13T04:30:57Z</dcterms:modified>
  <cp:revision>241</cp:revision>
  <dc:subject/>
  <dc:title>Слайд 1</dc:title>
</cp:coreProperties>
</file>